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9DD-12E4-4D7B-B03C-3DC278AF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713-F63B-44D8-949B-AE58CF0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202-FAEE-4259-8450-0F67F344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5A7-6073-484F-973D-6CC92690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F32-B5BA-4914-B498-B4060153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814-F7E6-429A-A64D-AB95C9D6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BBA-C8CE-47B3-9E45-BE02810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256-252E-4E5E-B611-A826FA23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8AE-D136-4CE3-B487-D2818E4C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F12-CA38-4FF4-9623-B86C34F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F7D-CEBB-4AD0-9C92-414DC0C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37A-C328-4831-8F87-488ED4CF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6E51-20AD-4626-8CC8-5E271A29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etheanplanet.com/server.php?show=ConResource.20000" TargetMode="External"/><Relationship Id="rId2" Type="http://schemas.openxmlformats.org/officeDocument/2006/relationships/hyperlink" Target="http://www.teachertube.com/" TargetMode="External"/><Relationship Id="rId3" Type="http://schemas.openxmlformats.org/officeDocument/2006/relationships/hyperlink" Target="http://earth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Essenti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Is the force with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How have landforms changed throughout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The role of humans on earth: good or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1440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Gill Sans Ultra Bold Condensed"/>
              </a:rPr>
              <a:t>Landfor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Gill Sans Ultra Bold Condensed"/>
              <a:ea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In this unit students will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Learn the different types of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Create a representation of a land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Analyze the processes that caused landforms to change or to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Describe the outcome of those changes and 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Analyze the human impact on the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Create a commercial that would persuade others to take better care of ou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Pre-Assessment for 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mall group, brainstorm as many landforms as you 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from the list and explain how they were formed and how they are changed throughout time. Draw a picture to help your explanation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7848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52680"/>
            <a:ext cx="78487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791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-assessment will determine which processes that change landforms we will cover more extensivel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Links to 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metheanplanet.com/server.php?show=ConResource.1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rometheanplanet.com/server.php?show=ConResource.2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metheanplanet.com/server.php?show=ConResource.938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achertube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videos on landforms, ero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google.com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kidsgeo.com/geology-for-kids/0032-understanding-landforms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16:11Z</dcterms:created>
  <dc:creator>tech</dc:creator>
  <dc:description/>
  <dc:language>en-US</dc:language>
  <cp:lastModifiedBy>tech</cp:lastModifiedBy>
  <dcterms:modified xsi:type="dcterms:W3CDTF">2009-10-30T17:17:29Z</dcterms:modified>
  <cp:revision>5</cp:revision>
  <dc:subject/>
  <dc:title>Slide 1</dc:title>
</cp:coreProperties>
</file>